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ZISCHEN.WAV" ContentType="audio/x-wav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2366-F803-42C9-9D75-3EA44053F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3895-D1B2-4BBF-BE86-BB5AE66D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B359-765C-458D-9314-D7BB9174C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D171-FD80-40D2-9DA3-D5851EECA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0438-0C22-454A-86D8-33695484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D98D-26C6-4AB7-894A-AF9608DB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0DA0-F1B4-439A-BCF5-A586868B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6A0D-297F-43F7-A235-AED96226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5CAB-6832-4973-AC63-87D807A2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663D-FBD2-4E7C-BD74-98FB0024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BA43-D5A7-46D2-A922-EBE1BE52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359B-824C-46A0-B9FC-716D26FB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047D-6DCA-4FB7-A933-D163AA1C471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ZISCHEN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audio" Target="../media/ZISCHEN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ZISCHEN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audio" Target="../media/ZISCHEN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audio" Target="../media/ZISCHEN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audio" Target="../media/ZISCHEN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audio" Target="../media/ZISCHEN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audio" Target="../media/ZISCHEN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audio" Target="../media/ZISCHEN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audio" Target="../media/ZISCHEN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audio" Target="../media/ZISCHEN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0" y="685800"/>
            <a:ext cx="914400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 B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22096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4419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ÉS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ZISCHEN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5800" y="2286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QUI DEVIENT MILLIONNAIRE de chocol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4114800"/>
            <a:ext cx="8686800" cy="76212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 sagst du, wenn du loseilen mus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5105520"/>
            <a:ext cx="2667240" cy="53316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: J‘ai so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5867280"/>
            <a:ext cx="2667240" cy="53352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C: J‘ai fa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52880" y="5181480"/>
            <a:ext cx="3429000" cy="53352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B: J‘ai rendez-v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0040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D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J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53080" y="9144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48520" y="990720"/>
            <a:ext cx="2514600" cy="25776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Times New Roman"/>
              </a:rPr>
              <a:t>1 grande tablette de choco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2 petites tablettes de choco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1 petite tablette de choco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5 bonb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4 bonb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3 bonb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2 bonb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1 bonb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914400"/>
            <a:ext cx="1219320" cy="6858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57200" y="3048120"/>
            <a:ext cx="1219320" cy="739800"/>
            <a:chOff x="457200" y="3048120"/>
            <a:chExt cx="1219320" cy="739800"/>
          </a:xfrm>
        </p:grpSpPr>
        <p:sp>
          <p:nvSpPr>
            <p:cNvPr id="192" name=""/>
            <p:cNvSpPr/>
            <p:nvPr/>
          </p:nvSpPr>
          <p:spPr>
            <a:xfrm>
              <a:off x="457200" y="3048120"/>
              <a:ext cx="1219320" cy="7398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>
              <a:off x="838080" y="3178080"/>
              <a:ext cx="609840" cy="48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" name=""/>
          <p:cNvGrpSpPr/>
          <p:nvPr/>
        </p:nvGrpSpPr>
        <p:grpSpPr>
          <a:xfrm>
            <a:off x="380880" y="1828800"/>
            <a:ext cx="1295640" cy="914400"/>
            <a:chOff x="380880" y="1828800"/>
            <a:chExt cx="1295640" cy="914400"/>
          </a:xfrm>
        </p:grpSpPr>
        <p:sp>
          <p:nvSpPr>
            <p:cNvPr id="195" name=""/>
            <p:cNvSpPr/>
            <p:nvPr/>
          </p:nvSpPr>
          <p:spPr>
            <a:xfrm>
              <a:off x="380880" y="1828800"/>
              <a:ext cx="1295640" cy="9144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6" name="" descr=""/>
            <p:cNvPicPr/>
            <p:nvPr/>
          </p:nvPicPr>
          <p:blipFill>
            <a:blip r:embed="rId2"/>
            <a:stretch/>
          </p:blipFill>
          <p:spPr>
            <a:xfrm>
              <a:off x="609480" y="1981080"/>
              <a:ext cx="914400" cy="58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"/>
          <p:cNvSpPr/>
          <p:nvPr/>
        </p:nvSpPr>
        <p:spPr>
          <a:xfrm>
            <a:off x="4952880" y="5867280"/>
            <a:ext cx="3429000" cy="53352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: J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4" name="ZISCHEN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685800"/>
            <a:ext cx="914400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 B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05320" y="22096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9880" y="297180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ZISCHEN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2286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QUI DEVIENT MILLIONNAIRE de chocol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4114800"/>
            <a:ext cx="8686800" cy="76212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Classez les villes par habitants. Commencez par la plus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5105520"/>
            <a:ext cx="2667240" cy="53316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: Marsei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5867280"/>
            <a:ext cx="2667240" cy="53352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: P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5105520"/>
            <a:ext cx="2666880" cy="53316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: Ly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00400" y="1600200"/>
            <a:ext cx="1905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: Pa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: Marsei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: Ly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53080" y="9144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00800" y="914400"/>
            <a:ext cx="2514600" cy="25776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1 grande tablette de choco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2 petites tablettes de choco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1 petite tablette de choco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5 bonb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4 bonb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3 bonb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2 bonb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1 bonb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914400"/>
            <a:ext cx="1219320" cy="6858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57200" y="3048120"/>
            <a:ext cx="1219320" cy="739800"/>
            <a:chOff x="457200" y="3048120"/>
            <a:chExt cx="1219320" cy="739800"/>
          </a:xfrm>
        </p:grpSpPr>
        <p:sp>
          <p:nvSpPr>
            <p:cNvPr id="57" name=""/>
            <p:cNvSpPr/>
            <p:nvPr/>
          </p:nvSpPr>
          <p:spPr>
            <a:xfrm>
              <a:off x="457200" y="3048120"/>
              <a:ext cx="1219320" cy="7398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838080" y="3178080"/>
              <a:ext cx="609840" cy="48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" name=""/>
          <p:cNvGrpSpPr/>
          <p:nvPr/>
        </p:nvGrpSpPr>
        <p:grpSpPr>
          <a:xfrm>
            <a:off x="380880" y="1828800"/>
            <a:ext cx="1295640" cy="914400"/>
            <a:chOff x="380880" y="1828800"/>
            <a:chExt cx="1295640" cy="914400"/>
          </a:xfrm>
        </p:grpSpPr>
        <p:sp>
          <p:nvSpPr>
            <p:cNvPr id="60" name=""/>
            <p:cNvSpPr/>
            <p:nvPr/>
          </p:nvSpPr>
          <p:spPr>
            <a:xfrm>
              <a:off x="380880" y="1828800"/>
              <a:ext cx="1295640" cy="9144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609480" y="1981080"/>
              <a:ext cx="914400" cy="58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4" name="ZISCHEN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2286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QUI DEVIENT MILLIONNAIRE de chocol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4114800"/>
            <a:ext cx="8686800" cy="76212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Nous regardons ..... salle de clas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5105520"/>
            <a:ext cx="2667240" cy="53316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: no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5867280"/>
            <a:ext cx="2667240" cy="53352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C: 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5181480"/>
            <a:ext cx="2666880" cy="53352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B: 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1600200"/>
            <a:ext cx="1905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: no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53080" y="9144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914400"/>
            <a:ext cx="2514600" cy="25776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1 grande tablette de choco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2 petites tablettes de choco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1 petite tablette de choco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5 bonb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4 bonb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3 bonb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2 bonb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Times New Roman"/>
              </a:rPr>
              <a:t>1 bonb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914400"/>
            <a:ext cx="1219320" cy="6858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57200" y="3048120"/>
            <a:ext cx="1219320" cy="739800"/>
            <a:chOff x="457200" y="3048120"/>
            <a:chExt cx="1219320" cy="739800"/>
          </a:xfrm>
        </p:grpSpPr>
        <p:sp>
          <p:nvSpPr>
            <p:cNvPr id="73" name=""/>
            <p:cNvSpPr/>
            <p:nvPr/>
          </p:nvSpPr>
          <p:spPr>
            <a:xfrm>
              <a:off x="457200" y="3048120"/>
              <a:ext cx="1219320" cy="7398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838080" y="3178080"/>
              <a:ext cx="609840" cy="48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"/>
          <p:cNvGrpSpPr/>
          <p:nvPr/>
        </p:nvGrpSpPr>
        <p:grpSpPr>
          <a:xfrm>
            <a:off x="380880" y="1828800"/>
            <a:ext cx="1295640" cy="914400"/>
            <a:chOff x="380880" y="1828800"/>
            <a:chExt cx="1295640" cy="914400"/>
          </a:xfrm>
        </p:grpSpPr>
        <p:sp>
          <p:nvSpPr>
            <p:cNvPr id="76" name=""/>
            <p:cNvSpPr/>
            <p:nvPr/>
          </p:nvSpPr>
          <p:spPr>
            <a:xfrm>
              <a:off x="380880" y="1828800"/>
              <a:ext cx="1295640" cy="9144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609480" y="1981080"/>
              <a:ext cx="914400" cy="58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"/>
          <p:cNvSpPr/>
          <p:nvPr/>
        </p:nvSpPr>
        <p:spPr>
          <a:xfrm>
            <a:off x="5715000" y="5867280"/>
            <a:ext cx="2666880" cy="53352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: 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4" name="ZISCHEN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2286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QUI DEVIENT MILLIONNAIRE de chocol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4114800"/>
            <a:ext cx="8686800" cy="76212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Cherchez l‘int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5105520"/>
            <a:ext cx="2667240" cy="53316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: cah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5867280"/>
            <a:ext cx="2667240" cy="53352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C: servi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15000" y="5181480"/>
            <a:ext cx="2666880" cy="53352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B: t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00400" y="1600200"/>
            <a:ext cx="1905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: t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3080" y="9144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248520" y="1143000"/>
            <a:ext cx="2514600" cy="25776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1 grande tablette de choco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2 petites tablettes de choco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1 petite tablette de choco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5 bonb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4 bonb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3 bonb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Times New Roman"/>
              </a:rPr>
              <a:t>2 bonb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1 bonb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914400"/>
            <a:ext cx="1219320" cy="6858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57200" y="3048120"/>
            <a:ext cx="1219320" cy="739800"/>
            <a:chOff x="457200" y="3048120"/>
            <a:chExt cx="1219320" cy="739800"/>
          </a:xfrm>
        </p:grpSpPr>
        <p:sp>
          <p:nvSpPr>
            <p:cNvPr id="90" name=""/>
            <p:cNvSpPr/>
            <p:nvPr/>
          </p:nvSpPr>
          <p:spPr>
            <a:xfrm>
              <a:off x="457200" y="3048120"/>
              <a:ext cx="1219320" cy="7398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838080" y="3178080"/>
              <a:ext cx="609840" cy="48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"/>
          <p:cNvGrpSpPr/>
          <p:nvPr/>
        </p:nvGrpSpPr>
        <p:grpSpPr>
          <a:xfrm>
            <a:off x="380880" y="1828800"/>
            <a:ext cx="1295640" cy="914400"/>
            <a:chOff x="380880" y="1828800"/>
            <a:chExt cx="1295640" cy="914400"/>
          </a:xfrm>
        </p:grpSpPr>
        <p:sp>
          <p:nvSpPr>
            <p:cNvPr id="93" name=""/>
            <p:cNvSpPr/>
            <p:nvPr/>
          </p:nvSpPr>
          <p:spPr>
            <a:xfrm>
              <a:off x="380880" y="1828800"/>
              <a:ext cx="1295640" cy="9144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609480" y="1981080"/>
              <a:ext cx="914400" cy="58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5715000" y="5867280"/>
            <a:ext cx="2666880" cy="53352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: go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4" name="ZISCHEN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2286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QUI DEVIENT MILLIONNAIRE de chocol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4114800"/>
            <a:ext cx="8686800" cy="76212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prendre: la forme nous 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5105520"/>
            <a:ext cx="2667240" cy="53316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: pren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5867280"/>
            <a:ext cx="2667240" cy="53352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C: pren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5181480"/>
            <a:ext cx="2666880" cy="53352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B: prenn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1600200"/>
            <a:ext cx="228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: pren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53080" y="9144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48520" y="990720"/>
            <a:ext cx="2514600" cy="25776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1 grande tablette de choco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2 petites tablettes de choco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1 petite tablette de choco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5 bonb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4 bonb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Times New Roman"/>
              </a:rPr>
              <a:t>3 bonb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2 bonb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1 bonb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914400"/>
            <a:ext cx="1219320" cy="6858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57200" y="3048120"/>
            <a:ext cx="1219320" cy="739800"/>
            <a:chOff x="457200" y="3048120"/>
            <a:chExt cx="1219320" cy="739800"/>
          </a:xfrm>
        </p:grpSpPr>
        <p:sp>
          <p:nvSpPr>
            <p:cNvPr id="107" name=""/>
            <p:cNvSpPr/>
            <p:nvPr/>
          </p:nvSpPr>
          <p:spPr>
            <a:xfrm>
              <a:off x="457200" y="3048120"/>
              <a:ext cx="1219320" cy="7398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838080" y="3178080"/>
              <a:ext cx="609840" cy="48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380880" y="1828800"/>
            <a:ext cx="1295640" cy="914400"/>
            <a:chOff x="380880" y="1828800"/>
            <a:chExt cx="1295640" cy="914400"/>
          </a:xfrm>
        </p:grpSpPr>
        <p:sp>
          <p:nvSpPr>
            <p:cNvPr id="110" name=""/>
            <p:cNvSpPr/>
            <p:nvPr/>
          </p:nvSpPr>
          <p:spPr>
            <a:xfrm>
              <a:off x="380880" y="1828800"/>
              <a:ext cx="1295640" cy="9144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609480" y="1981080"/>
              <a:ext cx="914400" cy="58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"/>
          <p:cNvSpPr/>
          <p:nvPr/>
        </p:nvSpPr>
        <p:spPr>
          <a:xfrm>
            <a:off x="5715000" y="5867280"/>
            <a:ext cx="2666880" cy="53352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: prend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4" name="ZISCHEN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2286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QUI DEVIENT MILLIONNAIRE de chocol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4114800"/>
            <a:ext cx="8686800" cy="76212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M. Blanchet, c‘est .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5105520"/>
            <a:ext cx="2667240" cy="53316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: le prof de m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5867280"/>
            <a:ext cx="2667240" cy="53352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C: le prof d‘angl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10080" y="5181480"/>
            <a:ext cx="2971800" cy="53352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B: le prof de bi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1600200"/>
            <a:ext cx="2133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: le prof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iolo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53080" y="9144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990720"/>
            <a:ext cx="2514600" cy="25776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1 grande tablette de choco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2 petites tablettes de choco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1 petite tablette de choco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5 bonb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Times New Roman"/>
              </a:rPr>
              <a:t>4 bonb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3 bonb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2 bonb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1 bonb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914400"/>
            <a:ext cx="1219320" cy="6858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7200" y="3048120"/>
            <a:ext cx="1219320" cy="739800"/>
            <a:chOff x="457200" y="3048120"/>
            <a:chExt cx="1219320" cy="739800"/>
          </a:xfrm>
        </p:grpSpPr>
        <p:sp>
          <p:nvSpPr>
            <p:cNvPr id="124" name=""/>
            <p:cNvSpPr/>
            <p:nvPr/>
          </p:nvSpPr>
          <p:spPr>
            <a:xfrm>
              <a:off x="457200" y="3048120"/>
              <a:ext cx="1219320" cy="7398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838080" y="3178080"/>
              <a:ext cx="609840" cy="48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"/>
          <p:cNvGrpSpPr/>
          <p:nvPr/>
        </p:nvGrpSpPr>
        <p:grpSpPr>
          <a:xfrm>
            <a:off x="380880" y="1828800"/>
            <a:ext cx="1295640" cy="914400"/>
            <a:chOff x="380880" y="1828800"/>
            <a:chExt cx="1295640" cy="914400"/>
          </a:xfrm>
        </p:grpSpPr>
        <p:sp>
          <p:nvSpPr>
            <p:cNvPr id="127" name=""/>
            <p:cNvSpPr/>
            <p:nvPr/>
          </p:nvSpPr>
          <p:spPr>
            <a:xfrm>
              <a:off x="380880" y="1828800"/>
              <a:ext cx="1295640" cy="9144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609480" y="1981080"/>
              <a:ext cx="914400" cy="58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"/>
          <p:cNvSpPr/>
          <p:nvPr/>
        </p:nvSpPr>
        <p:spPr>
          <a:xfrm>
            <a:off x="5410080" y="5867280"/>
            <a:ext cx="2971800" cy="53352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: le prof de mus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4" name="ZISCHEN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2286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QUI DEVIENT MILLIONNAIRE de chocol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4114800"/>
            <a:ext cx="8686800" cy="76212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Marc va ............ son cop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5105520"/>
            <a:ext cx="2667240" cy="53316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: 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5867280"/>
            <a:ext cx="2667240" cy="53352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C: ch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5181480"/>
            <a:ext cx="2666880" cy="53352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: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1600200"/>
            <a:ext cx="2133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C: ch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53080" y="9144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248520" y="990720"/>
            <a:ext cx="2514600" cy="25776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1 grande tablette de choco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2 petites tablettes de choco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1 petite tablette de choco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Times New Roman"/>
              </a:rPr>
              <a:t>5 bonb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4 bonb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3 bonb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2 bonb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1 bonb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914400"/>
            <a:ext cx="1219320" cy="6858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57200" y="3048120"/>
            <a:ext cx="1219320" cy="739800"/>
            <a:chOff x="457200" y="3048120"/>
            <a:chExt cx="1219320" cy="739800"/>
          </a:xfrm>
        </p:grpSpPr>
        <p:sp>
          <p:nvSpPr>
            <p:cNvPr id="141" name=""/>
            <p:cNvSpPr/>
            <p:nvPr/>
          </p:nvSpPr>
          <p:spPr>
            <a:xfrm>
              <a:off x="457200" y="3048120"/>
              <a:ext cx="1219320" cy="7398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838080" y="3178080"/>
              <a:ext cx="609840" cy="48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"/>
          <p:cNvGrpSpPr/>
          <p:nvPr/>
        </p:nvGrpSpPr>
        <p:grpSpPr>
          <a:xfrm>
            <a:off x="380880" y="1828800"/>
            <a:ext cx="1295640" cy="914400"/>
            <a:chOff x="380880" y="1828800"/>
            <a:chExt cx="1295640" cy="914400"/>
          </a:xfrm>
        </p:grpSpPr>
        <p:sp>
          <p:nvSpPr>
            <p:cNvPr id="144" name=""/>
            <p:cNvSpPr/>
            <p:nvPr/>
          </p:nvSpPr>
          <p:spPr>
            <a:xfrm>
              <a:off x="380880" y="1828800"/>
              <a:ext cx="1295640" cy="9144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" name="" descr=""/>
            <p:cNvPicPr/>
            <p:nvPr/>
          </p:nvPicPr>
          <p:blipFill>
            <a:blip r:embed="rId2"/>
            <a:stretch/>
          </p:blipFill>
          <p:spPr>
            <a:xfrm>
              <a:off x="609480" y="1981080"/>
              <a:ext cx="914400" cy="58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"/>
          <p:cNvSpPr/>
          <p:nvPr/>
        </p:nvSpPr>
        <p:spPr>
          <a:xfrm>
            <a:off x="5715000" y="5867280"/>
            <a:ext cx="2666880" cy="53352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: 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4" name="ZISCHEN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2286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QUI DEVIENT MILLIONNAIRE de chocol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114800"/>
            <a:ext cx="8686800" cy="76212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Mme Morel ...................... la voi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5105520"/>
            <a:ext cx="2667240" cy="53316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: tra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5867280"/>
            <a:ext cx="2667240" cy="53352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: p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15000" y="5181480"/>
            <a:ext cx="2666880" cy="53352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: g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1600200"/>
            <a:ext cx="2133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: g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53080" y="9144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48520" y="990720"/>
            <a:ext cx="2514600" cy="25776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1 grande tablette de choco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2 petites tablettes de choco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Times New Roman"/>
              </a:rPr>
              <a:t>1 petite tablette de choco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5 bonb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4 bonb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3 bonb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2 bonb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1 bonb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914400"/>
            <a:ext cx="1219320" cy="6858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57200" y="3048120"/>
            <a:ext cx="1219320" cy="739800"/>
            <a:chOff x="457200" y="3048120"/>
            <a:chExt cx="1219320" cy="739800"/>
          </a:xfrm>
        </p:grpSpPr>
        <p:sp>
          <p:nvSpPr>
            <p:cNvPr id="158" name=""/>
            <p:cNvSpPr/>
            <p:nvPr/>
          </p:nvSpPr>
          <p:spPr>
            <a:xfrm>
              <a:off x="457200" y="3048120"/>
              <a:ext cx="1219320" cy="7398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1"/>
            <a:stretch/>
          </p:blipFill>
          <p:spPr>
            <a:xfrm>
              <a:off x="838080" y="3178080"/>
              <a:ext cx="609840" cy="48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"/>
          <p:cNvGrpSpPr/>
          <p:nvPr/>
        </p:nvGrpSpPr>
        <p:grpSpPr>
          <a:xfrm>
            <a:off x="380880" y="1828800"/>
            <a:ext cx="1295640" cy="914400"/>
            <a:chOff x="380880" y="1828800"/>
            <a:chExt cx="1295640" cy="914400"/>
          </a:xfrm>
        </p:grpSpPr>
        <p:sp>
          <p:nvSpPr>
            <p:cNvPr id="161" name=""/>
            <p:cNvSpPr/>
            <p:nvPr/>
          </p:nvSpPr>
          <p:spPr>
            <a:xfrm>
              <a:off x="380880" y="1828800"/>
              <a:ext cx="1295640" cy="9144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609480" y="1981080"/>
              <a:ext cx="914400" cy="58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"/>
          <p:cNvSpPr/>
          <p:nvPr/>
        </p:nvSpPr>
        <p:spPr>
          <a:xfrm>
            <a:off x="5715000" y="5867280"/>
            <a:ext cx="2666880" cy="53352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: ap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4" name="ZISCHEN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2286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QUI DEVIENT MILLIONNAIRE de chocol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4114800"/>
            <a:ext cx="8686800" cy="76212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Le train de Strasbourg arrive ............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5105520"/>
            <a:ext cx="2667240" cy="53316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: co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5867280"/>
            <a:ext cx="2667240" cy="53352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C: pourqu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15000" y="5181480"/>
            <a:ext cx="2666880" cy="53352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B: qu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00400" y="1600200"/>
            <a:ext cx="2133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: qu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9144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48520" y="990720"/>
            <a:ext cx="2514600" cy="25776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1 grande tablette de choco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Times New Roman"/>
              </a:rPr>
              <a:t>2 petites tablettes de choco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1 petite tablette de choco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5 bonb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4 bonb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3 bonb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2 bonb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1 bonb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914400"/>
            <a:ext cx="1219320" cy="6858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57200" y="3048120"/>
            <a:ext cx="1219320" cy="739800"/>
            <a:chOff x="457200" y="3048120"/>
            <a:chExt cx="1219320" cy="739800"/>
          </a:xfrm>
        </p:grpSpPr>
        <p:sp>
          <p:nvSpPr>
            <p:cNvPr id="175" name=""/>
            <p:cNvSpPr/>
            <p:nvPr/>
          </p:nvSpPr>
          <p:spPr>
            <a:xfrm>
              <a:off x="457200" y="3048120"/>
              <a:ext cx="1219320" cy="7398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838080" y="3178080"/>
              <a:ext cx="609840" cy="48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"/>
          <p:cNvGrpSpPr/>
          <p:nvPr/>
        </p:nvGrpSpPr>
        <p:grpSpPr>
          <a:xfrm>
            <a:off x="380880" y="1828800"/>
            <a:ext cx="1295640" cy="914400"/>
            <a:chOff x="380880" y="1828800"/>
            <a:chExt cx="1295640" cy="914400"/>
          </a:xfrm>
        </p:grpSpPr>
        <p:sp>
          <p:nvSpPr>
            <p:cNvPr id="178" name=""/>
            <p:cNvSpPr/>
            <p:nvPr/>
          </p:nvSpPr>
          <p:spPr>
            <a:xfrm>
              <a:off x="380880" y="1828800"/>
              <a:ext cx="1295640" cy="9144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2"/>
            <a:stretch/>
          </p:blipFill>
          <p:spPr>
            <a:xfrm>
              <a:off x="609480" y="1981080"/>
              <a:ext cx="914400" cy="58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"/>
          <p:cNvSpPr/>
          <p:nvPr/>
        </p:nvSpPr>
        <p:spPr>
          <a:xfrm>
            <a:off x="5715000" y="5867280"/>
            <a:ext cx="2666880" cy="533520"/>
          </a:xfrm>
          <a:prstGeom prst="flowChartTerminator">
            <a:avLst/>
          </a:prstGeom>
          <a:gradFill rotWithShape="0">
            <a:gsLst>
              <a:gs pos="0">
                <a:srgbClr val="0000ff"/>
              </a:gs>
              <a:gs pos="50000">
                <a:srgbClr val="0000cb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: parce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4" name="ZISCHEN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3T17:49:26Z</dcterms:created>
  <dc:creator>Tobias Bönsch</dc:creator>
  <dc:description/>
  <dc:language>en-US</dc:language>
  <cp:lastModifiedBy>Hirschmann</cp:lastModifiedBy>
  <dcterms:modified xsi:type="dcterms:W3CDTF">2003-05-18T13:13:17Z</dcterms:modified>
  <cp:revision>30</cp:revision>
  <dc:subject/>
  <dc:title>Kein Folientitel</dc:title>
</cp:coreProperties>
</file>